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8640763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861F8-6E28-4C61-BF51-E5FEFC2D05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08FC3-ED89-4BF7-BE8E-68FECE988E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59426-007A-47E8-A504-D9B177F80E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CBB50-CC4D-4833-85EA-E5DD18F6FB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0FC8D-6162-4917-88DA-27D5A6670B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124D2-10C9-42F4-9D40-8FAA86028A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54C17-AC41-4722-B737-2FBD5651E6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2C9D1-F360-4789-966E-EE7824D82F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60E78-FCC1-460E-800E-50BD057591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CAFA5-7653-437E-BCA6-891CDB31EF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ECC97-161D-4268-9B10-33D04F0A8C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C0548-F6C1-4BF5-90CC-51D2F42AA6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7D0EC-43CC-4DA9-B900-1128853817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2163C-8DEB-4F49-BD39-C1B6EEE6CC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C8AAE1-149D-49F6-939B-2F5EE147E0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6025A4-A3EB-4735-A5A7-D65A97E8E8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8B2171-674A-4551-B102-4283675C279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AEB4AD-9161-4C4B-AF9F-F2BEE2B31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E2DC23-FC29-4BC8-879E-9EEFD3D4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E85E38-778E-448D-A79B-7C8C4ADC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808682-688F-44A9-818D-4B24BD8B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FA2EF7-45A8-4B6C-B99C-890B1B8C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1FAA5-C38D-4450-BAA2-CEEFF4179F9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A70E65-F5E8-497C-AE23-DBD6032E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0B8C66-7EDB-476F-B0DD-13ED5740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D705FA-8798-4345-8FB3-1448356B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4DFF6F-67D4-4C4E-BAEF-850AFD10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2694A3-3C3E-4ABE-BFFC-E01D7B8E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0027D1-EA91-41A5-9BC6-7EF9A62F7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14D9FA-587B-4484-AC53-B23400CC0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072BD-A1A2-44C1-A839-10AB81E19A6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F46C1-3379-4754-B22C-26F35EC1F07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14158-4840-4C84-84B6-3CC4CF59EE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DC047-46C2-4105-8D2B-AFA4AE46B3B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91811-4F61-4DEE-BE36-1A95D757160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8FA29-4F23-4689-9759-D6712FBDB0F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04AB5-2C69-40DC-BE0C-C72A8BC29B5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0C4F9-1CEF-428D-ADC7-3FE5D6E8F89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2577F-42BD-401A-8FFD-E3E7040C5E3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CD2D6-D1A8-45F8-91C0-BBFD002A5BC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AD2CD-42AB-4F0C-9278-865A1B39353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ADFEC-1A69-465D-B91B-96B3B892BAC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2FB24-269E-4212-A198-C70BBF67BC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B54F9-FD88-4A73-89F0-56E5D3F75D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85DD4-9C4A-45E3-B0AA-2643C55D7F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7F935-8994-4EA5-B51E-54F50028F9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9BC66-6195-4A06-BF28-BD5099DF67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BA90C-5098-42FA-AEF4-5E4CFEA7CB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760" indent="-204840">
              <a:lnSpc>
                <a:spcPts val="20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5088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5F231162-3BB0-4E84-B0B1-BB45BE4AE8C3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1" descr="UniHei_Logo_4C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marL="150840" indent="-1508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600" indent="-1256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7440" indent="-1288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4160" indent="-12600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28F02DF9-3E10-4939-9916-71459BEABE9A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216000" y="468360"/>
            <a:ext cx="5940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haltsverzeich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UniHei_Logo_4C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1" descr="UniHei_Logo_4C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760" indent="-204840">
              <a:lnSpc>
                <a:spcPts val="20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5088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215640" y="458280"/>
            <a:ext cx="266364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1" lang="de-DE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B07C0E72-6A66-4C94-849F-447C3C3C2207}" type="datetime">
              <a:rPr b="1" lang="de-DE" sz="2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7"/>
          </p:nvPr>
        </p:nvSpPr>
        <p:spPr>
          <a:xfrm>
            <a:off x="6192720" y="6084360"/>
            <a:ext cx="223056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A9E67EEF-C259-4AC3-9A1D-39EF16C9155E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" descr="UniHei_Logo_4C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marL="150840" indent="-1508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600" indent="-1256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7440" indent="-1288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4160" indent="-12600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8"/>
          </p:nvPr>
        </p:nvSpPr>
        <p:spPr>
          <a:xfrm>
            <a:off x="216000" y="6084360"/>
            <a:ext cx="575784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9"/>
          </p:nvPr>
        </p:nvSpPr>
        <p:spPr>
          <a:xfrm>
            <a:off x="6229440" y="6084360"/>
            <a:ext cx="219384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796FEAC2-024C-476A-BFD5-AD09C1072EBA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umsplatzhalter 3"/>
          <p:cNvSpPr/>
          <p:nvPr/>
        </p:nvSpPr>
        <p:spPr>
          <a:xfrm>
            <a:off x="216000" y="458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7120A19F-1C98-4D25-9F08-1B4813BDE417}" type="datetime">
              <a:rPr b="1" lang="de-DE" sz="22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liennummernplatzhalter 5"/>
          <p:cNvSpPr/>
          <p:nvPr/>
        </p:nvSpPr>
        <p:spPr>
          <a:xfrm>
            <a:off x="6192720" y="6084720"/>
            <a:ext cx="22305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433E3B88-D5EE-4DC6-8EDE-5EA2E9CFCDC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6000" y="1763640"/>
            <a:ext cx="8207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Titelseite der Präsentation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"/>
              </a:rPr>
              <a:t>Den Untertitel bitte händisch als nicht-fett formatieren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93480" y="5699520"/>
            <a:ext cx="604980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ußzeilenplatzhalter 3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liennummernplatzhalter 4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7ABFCA57-F82C-4E6D-86BF-312DEA26A05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7680" indent="-2476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ste Eb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60360" indent="-206280">
              <a:lnSpc>
                <a:spcPts val="2098"/>
              </a:lnSpc>
              <a:buClr>
                <a:srgbClr val="000000"/>
              </a:buClr>
              <a:buFont typeface="Arial"/>
              <a:buAutoNum type="arabicPeriod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wischen den Ebenen kann man mit Alt+Shift+Pfeil rechts/links umschal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216000" y="6084720"/>
            <a:ext cx="57578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229440" y="6084720"/>
            <a:ext cx="21938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9E36FF14-32AD-46C6-98E2-5938B9F107C2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6000" y="1738080"/>
            <a:ext cx="8207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Kapiteltrennseite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"/>
              </a:rPr>
              <a:t>den Untertitel bitte händisch als nicht-fett formatieren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3CC76D4B-2057-4A96-9775-81ABE3F6C35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s ist eine Beispielseit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 einer Auflistung von Fak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Aufzählungszeichen ist in der zweiten Einzugsebene eingerichtet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zweite Einzugsebene erreicht man mit Alt+Shift+Pfeil rec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k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k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ußzeilenplatzhalter 1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liennummernplatzhalter 2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80F6DD76-C27B-4C3C-9796-659BD0488E5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xt und Bi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32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92720" y="1835280"/>
            <a:ext cx="403056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56716B5A-6A5D-43E1-BC43-DAD8D6784DF8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397040" y="5865480"/>
            <a:ext cx="402588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ußzeilenplatzhalter 1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liennummernplatzhalter 2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1F793D7D-706F-427F-9B59-D120CE1B6A1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xt und 4 Bil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ußzeilenplatzhalter 5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liennummernplatzhalter 6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99E7-92A7-4C16-A78F-6C01C2751137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32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92360" y="1835280"/>
            <a:ext cx="1942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392360" y="3778200"/>
            <a:ext cx="19429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478560" y="1835280"/>
            <a:ext cx="19447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478560" y="3778200"/>
            <a:ext cx="19447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392360" y="3924360"/>
            <a:ext cx="1942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392360" y="5865840"/>
            <a:ext cx="19429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478560" y="3924360"/>
            <a:ext cx="19447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6478560" y="5865840"/>
            <a:ext cx="19447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EFED0F1C-B63A-448A-AD01-5F303CA2F92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oßes Bi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16000" y="1834920"/>
            <a:ext cx="82072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09:07:28Z</dcterms:created>
  <dc:creator>bernhard</dc:creator>
  <dc:description/>
  <dc:language>en-US</dc:language>
  <cp:lastModifiedBy>charlotte</cp:lastModifiedBy>
  <dcterms:modified xsi:type="dcterms:W3CDTF">2014-05-23T13:30:07Z</dcterms:modified>
  <cp:revision>13</cp:revision>
  <dc:subject/>
  <dc:title>Uni HD Beispiel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lpwstr>120228</vt:lpwstr>
  </property>
</Properties>
</file>