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CDDE-E5C3-4C4D-938F-D9FB440DD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D26F-5E19-43DF-BEA2-106C32C8A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EF1F-8F7D-4D80-9030-36297C768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61B7-345D-4604-B5A4-698515C1A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3CCC2-121C-463B-B02C-485A175267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9E066-C992-4541-98AA-3748CEDAE1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C315C-49B4-4A06-A56D-80E527F8E7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BA5E9-0E55-4F3B-B7A7-8F817430B7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6CA4F-D091-413D-B50F-FD1DA69DA8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E5077-E6DC-4897-A093-85532744AD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20CCD-7310-4D3B-B9F7-ED1307C444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7A40-D44A-4E29-A756-6BB29D315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F9EC9-4D31-4A7B-8404-52186F8215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3E16E-1480-46FE-A13E-84D1ADCDC5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B5EE4-CB28-4AC6-B822-6089B88196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8E4AF-A8DF-41C9-AE32-9D04F0544F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86616-4E8B-499B-B257-E270ED5CE0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4084D-6B41-46DA-B6E8-90960A54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29531-0147-49FB-94E0-55D06C97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D6ABF-CA53-49B6-ACAD-1350F4A1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5561A-F1B6-41CB-B39B-596B8EFD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9BA6E-103C-4817-9A99-AADA43DF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F52A-C5BC-46A6-8D9A-DE78A5FB8A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151F4-C319-409A-850A-EE372AF6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D5A387-A5CC-40E0-9F68-1CE66875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0DEC5A-7DDA-4C64-9683-08611715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D28FC-11DB-49C4-8BBE-1B72BFB3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2DB49-3822-4622-91D1-1C181FF0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1A5C11-D51B-4456-9E8A-6DEEAF32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4FBA7C-E0F4-47C0-8D79-7DE94428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30B5-964E-4D5C-8924-E177FDE167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BAC5-9E65-4F8B-8999-E75CA595BE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EFA2-3614-4311-96ED-5B82B61AB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A3B1-53B1-40B1-8A52-363153F94E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9498-9379-4B95-B014-776079B39D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A89A-4735-4101-8DA3-14833126EC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F9AB-FC75-4BD9-8BE8-377A2014BE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2D583-CD5D-4F5A-975C-E2167C0E32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AB63-25CE-48DF-BDC1-18C953B76C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A961-7C7F-4DC0-A745-97CE49DBFD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447B-34E4-49F4-820C-65ADA0FA73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9454-FB0F-402C-ADEE-5140792A1C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E6B13-D59C-42DE-BA41-0FF0B19AE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CEE6-88AD-4065-B8B6-2D6261A7F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6F7E-7119-4D02-A89E-F618629D7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47F5-4166-4639-9276-D5263888B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2B5A-32DF-4811-9C71-F7604DD2A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EF49-0B6D-440A-88E5-77AF83FE7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053FE67-11B7-49B5-BD25-9AF5A251C7D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318A7DB-063D-4EA8-BC03-D4518231BE50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89B6784-7A7D-4C93-A7BE-46C26D93631C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25204A6-EA81-4A3A-B9F4-17FFE5EE1C2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5078513-945D-46D8-9BB4-A1FF2B15733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FC4CA30-971D-4776-BB8F-74CB11B232DD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2548EAD-B3D9-4B6A-9C2B-67A978DDEC9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9FB1D04-6617-4B3F-A62C-83DAF6C936B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86116BF-E3A0-4F0A-BDB0-3537A9D37D1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00CA401-0C50-472F-BE08-6C0827E1A3A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3F91FCA-EDCB-4DED-99A0-099B28B756E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6C101F4-7C88-41E7-9E7B-BF589B511A8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DCBCD1E-9056-4F6B-94BC-F1332A63465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1A45-238B-4F8B-8917-8383113BE1F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56C4972-6020-4E72-8696-95E827ABAE8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3:11Z</dcterms:modified>
  <cp:revision>14</cp:revision>
  <dc:subject/>
  <dc:title>Uni HD Beispielpräsentation s/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