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7E45-AFC9-44ED-A93A-6C49B813D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0DD90-2B34-4F1C-A9CF-4EC36740C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63A5-D0EA-45CD-B14B-8A2D4F133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C8F7-86D2-47FD-ABAE-CCDA0B67A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5617E-11C0-42E1-B365-7F1F3160EA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96871-E285-4D26-9BA7-DB98357B45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D20ED-8FAE-46C6-90F8-C6549B051C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E5C07-3311-4435-9724-0F0F1808AE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41192-E4FB-4DDC-BC41-A127F938AB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B6272-EA1A-4C7C-9FE1-CD08192B14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51302-C4E1-426D-B61C-01CE905BFF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0766E-9E8E-419D-9963-9D3E86E67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A4B91-0C95-44FA-A7AA-BAD694857E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27BDC-19BA-431A-8FBE-8B5980EEF1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AC1B1-F9FB-4A73-9537-10017B729D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9D8E8-0AC4-4A9E-ABAB-C238846685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FF0D6-C29A-4A5D-B8DD-4AA7C6B57F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B5027C-84B6-49E4-A904-F9C8279B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83FEF7-7535-41C5-9B0A-66C54CAA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060FDB-7F4B-48B2-8B33-06E4224F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CCB433-0738-43FB-BEB5-7FCE2103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DD2FF4-C2B2-4F76-8910-A34DBA80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081A4-A0B3-4C94-A7B6-6229CDEA4C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FDEF10-A5C9-4959-9C7F-CF22D320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0A7B7B-8B99-4A36-A66D-4DD558E2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297880-A0F8-4238-8B3B-780EC451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B2571-37FA-4AED-8AF8-70BA3275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24671D-60C7-4BEA-9362-3AD83DA4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07E2F2-5701-4796-8B1B-11C40663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073339-4ADD-42BC-8972-BA7F9F50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BABB6-72DF-42A7-B65D-CC09C594B6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083B-B03B-4F96-8D99-88BFF53F8E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D82DD-3E35-463C-ABE9-4A3EA3D68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5DBD9-10CD-406E-99E2-F95A8176F1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21D3F-4577-4D31-82A1-64EE867AA9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55099-68D5-48BB-BD5D-C9B06E77D7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2DB95-BA75-4CA6-A278-B06C54CDF1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49CA-10DC-47A3-B869-6A6D488071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12229-9A83-4BA6-B061-AB34B1E8A9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BFF3-5049-474E-B859-2CF9944615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CDFA7-8BC6-4341-9D42-5896C63AF3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E0062-FCB2-4292-AD5F-3395CB4D10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18FF7-3561-4EED-BDD5-AE1EADE94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6BE42-CA8C-4CE2-B626-3DBB370B5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9925D-0F72-4D1D-9B8E-956331CBB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2783-3F0A-410E-8A13-9653E5BB1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4652-ABBA-4212-877D-DA5116262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D9C7-03B2-48BB-87D1-6F5572D65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74D82C5-C3CD-4180-99F2-8525DC5190C8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36DC91B-CE83-438D-9E01-31C0B806DB6F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449A0B0-8C6E-46FC-B451-720E29C8368A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40AA481-742D-4C3E-923D-2DCDF254663E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72E2745-DB2F-4141-A1CC-C6EDF870E45E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FEAA034-8087-45DA-9D11-5770479279FA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E69DB7B-A556-4102-B700-FDCB22AEFED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5563AD7-93F0-42AE-8464-4C6788C2D68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ACC103E-3413-4D83-9C85-2DA6C83E833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4A94C2D-542A-4CE5-A729-D48268CAF36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4757A0C-6689-46DF-8968-FCEAEE28195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E0ACC2B-7B14-480A-897B-E0610FBDAE1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5EFF3C2-EAFC-4BCC-98BE-74684800A03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F3D9-16E3-4A2C-837B-AD60AE12127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B200D9A-530E-4C50-88A9-D670A3C5F28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3:11Z</dcterms:modified>
  <cp:revision>14</cp:revision>
  <dc:subject/>
  <dc:title>Uni HD Beispielpräsentation s/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