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DCB29-89C7-4E38-AE9A-8A80635F5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D2947-27D8-4A8E-875F-67F22D616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9AF03-D100-4B5A-8447-1EDDAD291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7592E-B742-4E88-92F6-6D3833DDE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E90E5-4C1B-4916-8A44-BB760A648B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1B126-9BC7-4DCF-9061-3175189357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AB8EF-EF37-4BE0-9923-B6F6CDFB85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446C7-A05E-4DE4-A6AE-39237A1036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A08EB-A0B2-4573-A443-15C6EDED40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7303F-7C8B-4470-86A9-568ABAB3DA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63D7B-7256-4EE6-A74A-64F094D21B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95F15-BD3B-4768-861B-A0BA27103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E83EB-CFA2-4698-B482-F9BB5455FD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F5D98-FC9C-4094-A506-04F3917EA9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BD18B-25D8-4D31-AF1A-A8E1624713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D6C4F-656D-4D6A-9CB9-A5ABF001DD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50950-6C4C-423C-8846-159C408286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EA54BC-908F-41C2-A025-8E55B006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D0F4D6-702E-4B07-8BCA-B1E6ACD2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1C37F0-F023-4146-8C22-FC8B0509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F5426E-2BA3-4B9B-A197-3A98D1EE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7A64F5-0FA0-46CE-AB12-DF47F109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E4A88-19B9-4F89-8683-8577FABD5D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7267D9-FFC3-44DA-94F8-EAC4D6A3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99F66E-154D-401A-9BB6-6A2D6466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81D2B2-E737-4C35-86DB-A6A603C0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2FB051-50CC-4883-B434-A1186C4E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C1D82E-720D-4371-9AFC-F4A6333A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B37A3A-3F0B-4CB3-AB05-C76108F3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AA34B0-D54E-45A0-A474-A7E978CF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D38BA-0B7D-4B6D-8279-307A04FAEE3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53FDE-0971-4587-A0A0-8DDA9EE7D2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E5089-1F78-4C2D-8952-0F160B8C6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9CFD-8323-4ECD-B5CE-AEE26ED233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E752D-030F-4054-8133-D3109725BC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F6FBF-A091-4B68-BCD0-685E9BBF9B7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3A00E-8D31-437D-9272-BC95C0FF0F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8CE77-2C88-4D13-9219-6CAC2376B6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E1761-3000-4D20-A56B-64AFB4D600D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799C5-14AF-4DE4-95E0-3C372DD9234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DBC7A-846D-464B-8A14-2E1F4F613BB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D2CF7-458D-45A4-BCD7-7EE19916C5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B3096-5FEB-41EF-9662-DE06DB56F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AA0EF-F934-4B5E-9A81-933D99B9D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0A59E-B58E-4E76-A007-624012AF3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34408-9DE2-420A-BB9E-E374D1AD4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B4191-CF4C-4F63-8717-F3489973D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74428-D315-4865-8AB2-47EE7D16CD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C1238CE-E64D-4D70-8517-5C642663EEC2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1531530-AB18-4772-B610-CDD92547C178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6000" y="468360"/>
            <a:ext cx="5940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215640" y="458280"/>
            <a:ext cx="266364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1" lang="de-DE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5E5EA3D-7B24-4519-BA1E-83D96FB18DCE}" type="datetime"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192720" y="6084360"/>
            <a:ext cx="22305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1BB8C22-9DA0-446C-9BE2-6259473FD1C2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8"/>
          </p:nvPr>
        </p:nvSpPr>
        <p:spPr>
          <a:xfrm>
            <a:off x="216000" y="6084360"/>
            <a:ext cx="5757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9"/>
          </p:nvPr>
        </p:nvSpPr>
        <p:spPr>
          <a:xfrm>
            <a:off x="6229440" y="6084360"/>
            <a:ext cx="2193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8864F93-23CC-4339-9F6C-3D7B61A652F7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umsplatzhalter 3"/>
          <p:cNvSpPr/>
          <p:nvPr/>
        </p:nvSpPr>
        <p:spPr>
          <a:xfrm>
            <a:off x="216000" y="45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4227B5E-E895-4933-AFFE-4F1177D225D0}" type="datetime">
              <a:rPr b="1" lang="de-DE" sz="2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liennummernplatzhalter 5"/>
          <p:cNvSpPr/>
          <p:nvPr/>
        </p:nvSpPr>
        <p:spPr>
          <a:xfrm>
            <a:off x="6192720" y="6084720"/>
            <a:ext cx="223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DCE4F12C-F286-48D4-AA28-6F1F5E5C8BD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6000" y="176364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Titelseite der Präsentation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93480" y="5699520"/>
            <a:ext cx="60498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ußzeilenplatzhalter 3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liennummernplatzhalter 4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DB1225F-BF91-40B8-BD31-4E220957114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 Eb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206280">
              <a:lnSpc>
                <a:spcPts val="2098"/>
              </a:lnSpc>
              <a:buClr>
                <a:srgbClr val="000000"/>
              </a:buClr>
              <a:buFont typeface="Arial"/>
              <a:buAutoNum type="arabicPeriod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ischen den Ebenen kann man mit Alt+Shift+Pfeil rechts/links umsc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216000" y="6084720"/>
            <a:ext cx="5757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229440" y="6084720"/>
            <a:ext cx="2193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7D814F39-221C-418B-A494-BE512E1504F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6000" y="173808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Kapiteltrennseite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69EAA54-97B8-4133-9D9C-0704A83AF25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ist eine Beispielsei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einer Auflistung von Fak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Aufzählungszeichen ist in der zweiten Einzugsebene eingerichte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zweite Einzugsebene erreicht man mit Alt+Shift+Pfeil re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F79928A-2DAB-4CCB-B627-55CD5123129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92720" y="1835280"/>
            <a:ext cx="40305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46822B2-8152-4852-8F1E-07C5A947396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397040" y="5865480"/>
            <a:ext cx="40258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328EF44-4434-457C-89BB-84FB6FBDC82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4 Bi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ußzeilenplatzhalter 5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liennummernplatzhalter 6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2242-BE73-47D2-AAA7-67FC9A529D0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92360" y="183528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92360" y="377820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78560" y="183528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78560" y="377820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92360" y="392436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392360" y="586584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478560" y="392436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6478560" y="586584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F10EC4A-F0CB-4EC0-9BEB-9041159E140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oßes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16000" y="1834920"/>
            <a:ext cx="8207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9:07:28Z</dcterms:created>
  <dc:creator>bernhard</dc:creator>
  <dc:description/>
  <dc:language>en-US</dc:language>
  <cp:lastModifiedBy>charlotte</cp:lastModifiedBy>
  <dcterms:modified xsi:type="dcterms:W3CDTF">2014-05-23T13:33:11Z</dcterms:modified>
  <cp:revision>14</cp:revision>
  <dc:subject/>
  <dc:title>Uni HD Beispielpräsentation s/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120228</vt:lpwstr>
  </property>
</Properties>
</file>