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B5C0-6ED6-4F1F-9A03-C35E859E3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3388-7D07-48FD-8C98-316142C10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FCFC5-E4BC-4944-A3FC-A978F84F1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CDEB-E446-424B-8248-90D92F0C3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DFE06-6E4B-4D01-B267-07A03263B0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25DFF-5CBD-4705-AEF6-626B41F33A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C94A8-F5D9-4E90-878B-9C330EB133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E5393-B23F-4C09-8869-ECEAA0F3EE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1F8CD-D6DC-42A4-BE4E-DAAE705DDD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023D5-AFE0-47AA-AACE-D09FBE21BE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4831D-ACD1-468B-BBCF-C4A7D3AD42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614A-2CD9-461F-BDEA-9B72B12DB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796C2-090B-473B-9B46-C21205D9CD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0E335-A74A-492F-A7B6-AF4C1D7475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BDF66-D87B-445E-877A-E845A88408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B6DAF-8809-4D0F-A9BD-DAFC00A947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63C66-69B4-432C-90AA-6AAEF8A297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AD93C0-9581-432C-AD05-AA60310A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C1120-D636-44BC-B28F-AE4A0F7A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7F823F-4A05-4080-B7A7-17F13342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38FE96-99AA-4BE3-BC0E-6773FE6F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F13212-8576-4A5A-9088-A3AF03AA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938D-3D6A-467F-800B-38719F594F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C909BD-5E79-40A6-88E5-DA6E79AA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ECAF7A-7099-4B9E-9F97-0D39BA6C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A56707-B8A3-434F-9E97-4C72D607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051D4C-81CB-43E0-830B-D2259CFE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72C5DC-F475-438D-B468-4E6F9862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BFBFCD-9DCE-4705-8917-6F3F86DB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2B32BF-E803-4EC8-932D-70195D32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3A79B-4306-4B41-909C-4F4BD530D6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0D1D-3E70-461E-9BF1-25B9AB722F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B85E7-1E9E-4431-9996-F1C80CD42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CABCF-C37A-4093-9F43-98AC462013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86A4-4FE4-4E2E-9123-9C48F8E4DD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BDCC7-A499-49F0-BD62-FFF4110F98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7679B-9F06-482E-A9AE-78A92D8E59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6B2D7-6EF3-496F-BAA2-8D21200BA5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2D43-8E66-4B0E-A461-47A1879C60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39C2E-6046-4855-9A85-AE173B8272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FAB40-6C96-42AE-A851-CB3770351B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4B74-4415-4D72-971D-6A0A2EDEC7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DF45-DBB3-4F83-A78B-C31054F47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4E33E-D499-4600-AE16-840A472F5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32C84-6F3C-4FD4-A9B3-0445CE680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D8E4-6C82-4B96-9947-3012D926B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43CE-43FC-4256-BE43-DB567188A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904F-2DA5-4CF6-A814-3CFCF9AAF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A3A0AD6-380F-4F15-A3F0-FB29BC7FD391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06CF94D-3B52-4A26-A6DC-718D8A4C2C3C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1719318-C5F5-4AB5-AD42-677F48248DB5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B5586FC-DE7E-4AF6-AC49-1AAF735CD1A6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01D0BA2B-5465-42E2-BA6E-BD77756AA78E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AFA3E39-8D13-4623-AB6E-8B04108B44AB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FD31E3B-D27F-4519-A3D5-5D798D9B7C3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1B79753-3F85-412C-833E-45415425F82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A907314-78EB-494F-81EA-81F40FE7C10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2ECD529-66C1-4F7F-8F7D-302BB77C6FE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19F89AF-92A0-45C9-9AD2-022791C954A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6D4EF59-3591-4421-840A-F59A9E1DF8D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CFB9E92-33D9-400F-88F1-811432F8230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97AB-C442-4239-98E1-B89262515B0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3BE096E-BE48-4A92-89CE-1B4F9DD51EC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3:11Z</dcterms:modified>
  <cp:revision>14</cp:revision>
  <dc:subject/>
  <dc:title>Uni HD Beispielpräsentation s/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