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BA64-A4CE-4B82-A09A-22E907718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991C-DFF4-492E-A586-0B31F33A5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7719-BDEC-494D-B086-769C9574A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88A7-8A51-4D05-BD02-7F0AD096A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113A-4486-42CF-A76F-015FA95945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6A673-27B8-48F1-A6E7-0C029188FB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AE20D-713F-4C47-B08C-1E4AB9A37E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130B7-2151-4824-861A-90F1AC80A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BA192-E246-4F41-AFE9-050B2E5B27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B1721-18AE-4369-B04E-01AD40837E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510C9-3875-439C-B78D-FDB573288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F370-C7BA-47A4-990A-8C97F4082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DA239-18DE-4B5C-A6A3-0580F70EE3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080E9-652C-4AB9-B886-4F72D80C7D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BD589-451D-4704-B0DE-B6FCBFC893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A58B5-D87C-4E4E-A17B-351548CC71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D14EB-8D4C-457A-8A2C-2AA4366EAC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254365-E217-41E0-9018-BB61F3E9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5AC33-5D10-4F4F-87E2-9FBB4E48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0B1BE-C46A-4789-92DB-07AE12EF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95F6F-8F74-4A97-9FA1-D1B0076B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149BC-8590-4585-994C-42E4DFFF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0E4A-5680-4138-B8FE-DCDE7A0578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7EE94C-40CF-44B7-83BD-0F0941B0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5EDA1-E5FF-4C66-90DE-B9A7DAE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A32E0-C80E-4FB7-BBD6-EC3F90CA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92796-509A-4D4E-8B86-6DA9B6DE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EC08C-AD2C-4EBC-AA3E-344678B3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D1BEEA-6ACC-48F8-8A3A-DF3A9925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A2C31-BD9E-498C-8F4D-76157C8F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868D-04D7-47EA-A699-ED72F4512B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4D43-A771-41E4-ADB5-8D4A550C09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A654E-BBD5-4259-96A3-DA5DA9F8A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AEAF-E29D-45D3-A0E4-3F0A2413EC4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9BB6-052C-4BB6-9594-4FE81E8550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DF69-2C4B-4B52-A6C7-7EAD6C91C1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DD85-D5AA-4013-9B80-9D16A7F7DC7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84C3-580A-4DAD-8049-EEF5AB1ECA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42F7-9FB0-4262-9C80-0915AD3FAC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FF88-385F-4466-804B-B1D445F691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C17D-7F80-4855-B6ED-DC9FDEFB55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736D-8F0F-40A4-956C-220BA50A5C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120E9-F979-4372-B4F6-ABF55181D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3326-2F16-464B-9C0E-F2213B11D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D36C-6E87-470E-B9E6-8892729AB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1164-7D72-4843-B370-EED1455B5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053B1-0C9F-4D78-A523-99B56D820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E236-016E-4264-9048-9E285381B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F3F3E82-090E-4C76-9FB8-1B2448B9DD2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2F7944E-F0E4-47EE-A4D1-6429170C04E4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BFEB4CC-5CB9-4A6A-9963-CD3FBF6C018C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B0BFD47-159B-43E8-AA45-208770232B9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966BA3B-A093-459D-90F1-C66C9CFCD9A3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DF69907-FB60-4011-A211-98147BF8689F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821FDEE-891E-4703-8527-9DF456BB58F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5B6CE21-4868-48FF-B684-B7EC6B5D611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2B8E7DC-C560-4C19-B1D9-3B339407DB7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57BB5A6-3244-401A-8596-8BB25402EC3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332512C-F86F-454C-B789-649B70FBF93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4024CAA-9C78-4519-B43D-63842DF06DA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BC258FC-E2CA-4BE3-ACAC-75B486CEC5A9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EEA6-A7DC-494C-9304-74AD66EE4B1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64D0721-0468-4AE7-928D-08E332D2D49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3:11Z</dcterms:modified>
  <cp:revision>14</cp:revision>
  <dc:subject/>
  <dc:title>Uni HD Beispielpräsentation s/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