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86407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26EB7-1ECA-4F85-94D4-C5D06F3E2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43ECF-279F-4E07-9553-DADD4CDEF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1EBA3-AB56-4B78-B1D3-99B9227A7D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1F8BF-5E42-442F-A8F4-94394B6FDB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4E468-346C-43E3-A675-24D4575796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C79C7-F166-4DB5-A2B9-D08283B1A9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B3588-D58B-4B58-A7AC-E922E1F0A7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EFFBC-3587-4534-BB99-C65956D4DF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7AC1C-E0F4-4C32-B968-33AF85EA02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9D8CC-40F8-489C-BFE4-79E54C6964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DC54B-4B68-4B49-ABF7-46BF7D23F2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42C23-5071-496A-B388-33CA09A9F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C9501-031A-4AF2-BF86-EDDBC3E249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082E8-D95B-4FC3-955A-CA9A2DF9AB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2DC43-77E1-4012-AD20-22D8042CD4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96D8F-409E-4F6E-B689-D4404F6F31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713A2-FC2F-4016-BC71-9251E28D798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8E2B8F-0DED-4837-9176-B54E58EE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4FB978-05D2-4124-AB92-CE91B276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73DA51-6569-4878-8C41-1B4FC999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125D43-44AF-4C7B-96A1-BD4B8AFA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70FB6C-AACF-4BAF-B05E-3499FF0A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29976-D241-45F1-8F71-DE0FD5C195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B82D9A-0527-4C94-B33E-137FBA6B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183958-3F53-48B1-9A38-29BFAEA1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2C2E3C-0ABE-46ED-89F9-17059694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A06927-5DC5-4597-9E53-994D87D2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BEAE9A-7ADC-47E5-8A38-BF9F9D1C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5B022B-242D-49D5-9E55-97754115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E72C5F-98D6-473D-94A3-D5C66AF2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60F8E-8429-4ED3-A7C0-53162332CB0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A01BD-B4E3-4385-8713-3C6A6B913DF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19685-24FB-448B-9359-DED773FF7D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F8D05-6970-475A-A8D6-0531A61BFE8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DA066-2974-4361-BC86-13C6A44FA68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3935D-80FF-4619-8A1D-981C2126554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D09EB-C466-4F06-A68C-5F7200B4217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BB2CA-4EAF-45CE-B1B1-5ABB225D242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9858B-245C-4412-8263-4D318141085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576B2-D561-47AE-B945-D52E2822F45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2975D-C1CB-4B95-9E18-1ABFDFE3644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5CBE5-3DD1-45EA-9027-5B94A43C9AC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1DC8D-AFA9-46C1-9C9E-F1182C918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3116C-9697-4C92-9E94-9A6D0ABE5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AA989-F3FB-433F-97AA-F0F7313439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93305-25A4-4DA2-9644-6D7B49E25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62C52-2110-4598-9512-BC8605A54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EAFCF-E003-44B2-B797-82DDD21E0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C4BEFF80-D77D-46B0-9FA0-A02E91AC9774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1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037F6D06-E238-4AE8-BAA2-998BF67D279D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216000" y="468360"/>
            <a:ext cx="5940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haltsverzeich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215640" y="458280"/>
            <a:ext cx="266364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1" lang="de-DE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52BBD1FF-077D-4F6A-A531-A616C265E32E}" type="datetime"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192720" y="6084360"/>
            <a:ext cx="223056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43B5BD8B-044D-4183-A6C2-B58856443F91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8"/>
          </p:nvPr>
        </p:nvSpPr>
        <p:spPr>
          <a:xfrm>
            <a:off x="216000" y="6084360"/>
            <a:ext cx="5757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9"/>
          </p:nvPr>
        </p:nvSpPr>
        <p:spPr>
          <a:xfrm>
            <a:off x="6229440" y="6084360"/>
            <a:ext cx="2193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96E21947-4EF1-4311-8D66-05388FCCE68C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umsplatzhalter 3"/>
          <p:cNvSpPr/>
          <p:nvPr/>
        </p:nvSpPr>
        <p:spPr>
          <a:xfrm>
            <a:off x="216000" y="458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2A2D158A-0992-441D-B16C-C2E2467EDD82}" type="datetime">
              <a:rPr b="1" lang="de-DE" sz="2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liennummernplatzhalter 5"/>
          <p:cNvSpPr/>
          <p:nvPr/>
        </p:nvSpPr>
        <p:spPr>
          <a:xfrm>
            <a:off x="6192720" y="6084720"/>
            <a:ext cx="22305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49A58916-6330-40B4-95CD-657C2975B54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6000" y="176364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Titelseite der Präsentation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93480" y="5699520"/>
            <a:ext cx="604980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ußzeilenplatzhalter 3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liennummernplatzhalter 4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46893B7F-59E2-430E-8441-C3EEE91EA9C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ste Eb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60360" indent="-206280">
              <a:lnSpc>
                <a:spcPts val="2098"/>
              </a:lnSpc>
              <a:buClr>
                <a:srgbClr val="000000"/>
              </a:buClr>
              <a:buFont typeface="Arial"/>
              <a:buAutoNum type="arabicPeriod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wischen den Ebenen kann man mit Alt+Shift+Pfeil rechts/links umschal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216000" y="6084720"/>
            <a:ext cx="5757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229440" y="6084720"/>
            <a:ext cx="2193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209C3D06-570D-4660-B323-5F33C7D2B90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6000" y="173808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Kapiteltrennseite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6F24EB6A-222E-4261-81DD-F3F2AF0B7D9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s ist eine Beispielsei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einer Auflistung von Fak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Aufzählungszeichen ist in der zweiten Einzugsebene eingerichtet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zweite Einzugsebene erreicht man mit Alt+Shift+Pfeil rec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5BE104B7-9B0A-463E-8888-01BD52B4EF8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92720" y="1835280"/>
            <a:ext cx="403056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A509550E-39BB-4CC9-9A98-FBDC8EBFC46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397040" y="5865480"/>
            <a:ext cx="402588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F54F9AA2-D5E2-434D-B80A-2EA01344230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4 Bil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ußzeilenplatzhalter 5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liennummernplatzhalter 6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BA45-F034-4999-B908-C51D93A730C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92360" y="183528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92360" y="377820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478560" y="183528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478560" y="377820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92360" y="392436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392360" y="586584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478560" y="392436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6478560" y="586584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C30D769B-9CC0-4BE2-9C24-9C76D21F8B5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oßes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16000" y="1834920"/>
            <a:ext cx="82072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9:07:28Z</dcterms:created>
  <dc:creator>bernhard</dc:creator>
  <dc:description/>
  <dc:language>en-US</dc:language>
  <cp:lastModifiedBy>charlotte</cp:lastModifiedBy>
  <dcterms:modified xsi:type="dcterms:W3CDTF">2014-05-23T13:30:07Z</dcterms:modified>
  <cp:revision>13</cp:revision>
  <dc:subject/>
  <dc:title>Uni HD Beispiel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lpwstr>120228</vt:lpwstr>
  </property>
</Properties>
</file>