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E50CE-751A-4598-A752-877715223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48BC6-9DE1-40D3-8DD2-5506ADDAE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1EA8-7F15-4134-9443-1CFD974CA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A4C9A-38AC-4ABC-931B-53470A285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90900-E49B-474B-809D-70BF3DB0DA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A9F41-9B16-4220-A177-8F680456F1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A618D-073B-4729-A9CE-7390DFBB87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55106-6821-4843-B830-3CD0456515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DDB42-2784-42DC-B7E8-AE39DC5AEF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EA9B5-AC5C-4FC1-94F1-98377F4BBA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F7EF7-16FB-40EC-B52F-F826EB2542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F59A-51F4-4FC9-8E51-3EE72EB62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24403-45C5-4CEC-8312-0068AE3B93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4D926-CEDE-45D9-B070-88C80DEFFF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0404A-B778-4DD5-A70C-0E97055100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41476-73AE-48D6-9BF4-BE11326B8F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1A4FD-3678-4929-AA83-5D7AAB76F6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11AB5-4DCA-40BA-91BD-FA2BEF8B4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CAC4DC-CB48-467B-9AD4-058B2DBA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6D882-D910-4D74-B0D0-CA80B4AA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7FE4A4-5BFE-4F4F-B660-438698B7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DD3B4-0266-412C-B7AA-19CF4CF3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FC54-07A0-4EEA-9CB1-850998EBE7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50673-5B5A-4579-87F6-E0D2F99E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9492D5-FF17-4E45-BCB3-245754E5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C8C111-652E-4BE9-9720-0254BADA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19082A-D6F1-4705-B3E1-E55DFF4D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15E47C-FB85-43EA-AEF0-CC201A14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B706C-0131-464A-A585-FC9CE344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7861F0-5AD7-4D06-B25E-B5899427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2F87E-52B7-41BB-9508-921B01F791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82D91-FFC1-46C0-BF8A-7A70D590F1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908C-3213-4142-918D-E7FA278BFD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3D0D-BD5C-4906-B673-CCB25CEAE6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6732-9BA3-4907-ACB6-902BB50D96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1178-1F7C-493F-9643-1875695907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269F7-8E41-447D-B5B8-CA6ED964DE7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B622-712E-48CA-95A9-C150E3BCFC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C0097-3B4D-4E00-AFFC-3ACCE3B73E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71A94-3DAC-4885-99E3-46880E8E83D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36096-55A7-4AA4-A6E3-5070B9AC0D1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AAE5-EBA9-4ACC-B807-A14CA4FAFC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9088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65760" y="176364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1600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299088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65760" y="3908160"/>
            <a:ext cx="26424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593CA-5AC9-4D1C-8292-6F9FBB911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06EAA-F673-4A63-89A2-FE1216F0E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00" y="468360"/>
            <a:ext cx="601344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5241-7490-4277-954B-3A3411E33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F735-FAC4-4BBB-A96C-D12CF2A4B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21520" y="390816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51AB-C7CD-4256-8ABB-18758AB67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21520" y="1763640"/>
            <a:ext cx="400500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00" y="3908160"/>
            <a:ext cx="8207280" cy="19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7D76-1514-4A1D-91AB-BEA65C2C9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136EA4B-4E4D-4512-9481-DB391DAE1C37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C399435-628D-4BAF-B739-B89AF806DA1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216000" y="468360"/>
            <a:ext cx="5940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28760" indent="-204840">
              <a:lnSpc>
                <a:spcPts val="2098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65088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868320" indent="-216000">
              <a:lnSpc>
                <a:spcPts val="2098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215640" y="458280"/>
            <a:ext cx="266364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1" lang="de-DE" sz="2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20B5DE4-F0DD-4ED4-AD7D-4DCE644EC700}" type="datetime">
              <a:rPr b="1" lang="de-DE" sz="2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16000" y="6084360"/>
            <a:ext cx="547200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192720" y="6084360"/>
            <a:ext cx="223056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35BBDAC-38F6-4490-A023-6BE9234C1D7F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UniHei_Logo_bl_small"/>
          <p:cNvPicPr/>
          <p:nvPr/>
        </p:nvPicPr>
        <p:blipFill>
          <a:blip r:embed="rId2"/>
          <a:stretch/>
        </p:blipFill>
        <p:spPr>
          <a:xfrm>
            <a:off x="6477120" y="216000"/>
            <a:ext cx="1726920" cy="9064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marL="150840" indent="-1508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8600" indent="-12564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7440" indent="-1288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4160" indent="-12600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53040" indent="-12636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8"/>
          </p:nvPr>
        </p:nvSpPr>
        <p:spPr>
          <a:xfrm>
            <a:off x="216000" y="6084360"/>
            <a:ext cx="5757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9"/>
          </p:nvPr>
        </p:nvSpPr>
        <p:spPr>
          <a:xfrm>
            <a:off x="6229440" y="6084360"/>
            <a:ext cx="2193840" cy="1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EA01BE1-F315-49AE-8C3C-4624295213C9}" type="slidenum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umsplatzhalter 3"/>
          <p:cNvSpPr/>
          <p:nvPr/>
        </p:nvSpPr>
        <p:spPr>
          <a:xfrm>
            <a:off x="216000" y="458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9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AEE9ACF-69C2-4D1E-BA8A-FF9A04580BF3}" type="datetime">
              <a:rPr b="1" lang="de-DE" sz="2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liennummernplatzhalter 5"/>
          <p:cNvSpPr/>
          <p:nvPr/>
        </p:nvSpPr>
        <p:spPr>
          <a:xfrm>
            <a:off x="6192720" y="6084720"/>
            <a:ext cx="22305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8D5ED8D-12EE-4451-BEE6-8D741ABED37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6000" y="176364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Titelseite der Präsentation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.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3480" y="5699520"/>
            <a:ext cx="604980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ußzeilenplatzhalter 3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liennummernplatzhalter 4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DA099F3-4F85-4A93-A6C6-9FABF014E987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7680" indent="-247680">
              <a:lnSpc>
                <a:spcPts val="2098"/>
              </a:lnSpc>
              <a:spcBef>
                <a:spcPts val="4201"/>
              </a:spcBef>
              <a:spcAft>
                <a:spcPts val="2100"/>
              </a:spcAft>
              <a:buClr>
                <a:srgbClr val="000000"/>
              </a:buClr>
              <a:buFont typeface="Arial"/>
              <a:buAutoNum type="arabicPeriod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 Eb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06280">
              <a:lnSpc>
                <a:spcPts val="2098"/>
              </a:lnSpc>
              <a:buClr>
                <a:srgbClr val="000000"/>
              </a:buClr>
              <a:buFont typeface="Arial"/>
              <a:buAutoNum type="arabicPeriod"/>
              <a:tabLst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 den Ebenen kann man mit Alt+Shift+Pfeil rechts/links umschal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216000" y="6084720"/>
            <a:ext cx="5757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229440" y="6084720"/>
            <a:ext cx="21938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A5A6E69-4C19-4057-856E-A14A9989E5E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6000" y="1738080"/>
            <a:ext cx="82072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3100" spc="-1" strike="noStrike">
                <a:solidFill>
                  <a:srgbClr val="000000"/>
                </a:solidFill>
                <a:latin typeface="Arial"/>
              </a:rPr>
              <a:t>Kapiteltrennseite</a:t>
            </a:r>
            <a:br>
              <a:rPr sz="3100"/>
            </a:br>
            <a:r>
              <a:rPr b="0" lang="de-DE" sz="3100" spc="-1" strike="noStrike">
                <a:solidFill>
                  <a:srgbClr val="000000"/>
                </a:solidFill>
                <a:latin typeface="Arial"/>
              </a:rPr>
              <a:t>den Untertitel bitte händisch als nicht-fett formatiere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641773A-F87F-41F1-BE17-F7366D7EBC9D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s ist eine Beispielseit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it einer Auflistung von Fak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820728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s Aufzählungszeichen ist in der zweiten Einzugsebene eingerichtet.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zweite Einzugsebene erreicht man mit Alt+Shift+Pfeil rec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2120" indent="-220680">
              <a:lnSpc>
                <a:spcPts val="2098"/>
              </a:lnSpc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k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72ABBDF-6556-4838-8932-FCF50ECB370A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92720" y="1835280"/>
            <a:ext cx="403056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966A8E8-A7E0-4A07-980B-5ABBD6A428C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397040" y="5865480"/>
            <a:ext cx="4025880" cy="1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ußzeilenplatzhalter 1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liennummernplatzhalter 2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C6C5521F-665A-4596-A582-6526D98C7481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xt und 4 Bil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ußzeilenplatzhalter 5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liennummernplatzhalter 6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9F93-8D50-4AFE-94A1-EAF380E4C91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16000" y="1763640"/>
            <a:ext cx="40320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92360" y="183528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392360" y="377820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478560" y="183528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478560" y="377820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92360" y="3924360"/>
            <a:ext cx="19429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392360" y="5865840"/>
            <a:ext cx="19429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478560" y="3924360"/>
            <a:ext cx="194472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2098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6478560" y="5865840"/>
            <a:ext cx="194472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0000"/>
          </a:bodyPr>
          <a:p>
            <a:pPr indent="0">
              <a:lnSpc>
                <a:spcPts val="2098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de-DE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ußzeilenplatzhalter 4"/>
          <p:cNvSpPr/>
          <p:nvPr/>
        </p:nvSpPr>
        <p:spPr>
          <a:xfrm>
            <a:off x="216000" y="6084720"/>
            <a:ext cx="547200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nstitut / Titel / Verantwortlicher /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5"/>
          <p:cNvSpPr/>
          <p:nvPr/>
        </p:nvSpPr>
        <p:spPr>
          <a:xfrm>
            <a:off x="6192720" y="6119640"/>
            <a:ext cx="223056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1A1D3F3A-7C87-499A-882B-2148C86C26F4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6000" y="468360"/>
            <a:ext cx="601344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9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roßes Bi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16000" y="1834920"/>
            <a:ext cx="820728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9:07:28Z</dcterms:created>
  <dc:creator>bernhard</dc:creator>
  <dc:description/>
  <dc:language>en-US</dc:language>
  <cp:lastModifiedBy>charlotte</cp:lastModifiedBy>
  <dcterms:modified xsi:type="dcterms:W3CDTF">2014-05-23T13:33:11Z</dcterms:modified>
  <cp:revision>14</cp:revision>
  <dc:subject/>
  <dc:title>Uni HD Beispielpräsentation s/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120228</vt:lpwstr>
  </property>
</Properties>
</file>