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2C07-FE83-420D-BB52-5AF758BA4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E795-7133-4B47-8FF8-DB73B3021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3F951-2539-4CBE-8E46-4CD56A545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6054-3143-455A-BD46-CEF0C38FA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82845-7ADF-40E9-8428-84B0485C00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5D6F2-327B-4553-9386-0A2CFC6D3C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058B0-8E29-4F8B-891A-F67B06EAB1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B03A9-FD37-4E57-B81E-CB105B041A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B72197-5D0A-4A5B-8781-96E94E52D6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DCBAF-53DB-43CC-974D-D68317D0D2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0B83E-B554-4438-904E-DE62F72ED7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B6F0-00D6-428C-A90F-29D7DDBA90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49967-DCB3-41C7-B980-64ED70173D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128D2-E430-4551-8314-499DED18F5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EDE1DA-DA05-4629-9F54-6736D59903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1C6DB-86B4-401D-8B50-3E94A4D43B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FD5C4-A13E-4E8C-9D99-945DA3925AD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93D465-2E86-4CD7-A8C8-A4EA7488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AAF0B2-FE40-42B7-AA3A-4DD80261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F9FE0A-5FFC-485F-A2C2-0CDB9247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DAE4E-6F66-4231-8DE3-84E6AAD7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CBF69F-0AED-454E-A88A-9B0C7310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5E30-4327-4F85-B37D-D6FB792818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0BA8D-E4A3-4ECB-AF78-35E9E8B0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8D5A66-655C-42BB-8258-4EE9E6E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A158D-F3CB-43BA-AA9C-E6FFC7D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A68DC-311B-462F-AB5A-B19958C1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3E6A74-4916-44F8-91A3-0B8EB735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1FDA5B-B606-4660-AB23-58FCEC9D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DBFB87-84A0-4C08-B081-7B88DC667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8DC0-B2F3-4641-A027-078297108B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80651-2173-4214-9E29-56409E485BC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62D57-7BFE-4EED-9693-5054838DD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A847E-82A1-490E-8419-8B9F46A22A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7BC5-AF6A-4A7C-87C6-EEEEA021842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710B-06CF-41DB-BE51-94CB6241CC0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715F-09BF-4A57-AF32-4D5769B21C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CAAFD-EBA4-4C5B-9656-95DD5E14940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50BF0-F5BB-4D5A-9006-BEC1041416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6962-00DE-4977-BFE8-7856A5AEC1B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F667A-3C84-4711-B7B9-EBCDA75E9A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D1C7-7683-4175-B66A-27ABF07B20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98689-6F80-40A9-A309-F09E18FFE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910DE-ED4A-4EF0-8272-985E54E96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48AB6-B755-4912-801A-18053B46F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695F7-78FB-4F47-BF63-E1CECCA78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6133-CE50-412F-AEA4-69E65DF0C4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BF97-10D2-4292-9420-DE18E29B5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53B9E3A-5AD5-4B55-A690-B78AE03B9178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EC80E17-A309-4AAF-B7B7-872B0E2524DD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1B8545C-5D20-475E-9381-350A721988BF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368018F-C18B-4F30-B4D2-1DF003AFEABA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UniHei_Logo_4C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D8F87A1B-FFA2-4107-8473-F755A1F5B0D5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7CE4490-EE75-4E70-A410-A0DF01CFF67F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402724B-F211-46DD-AA8D-D1F099B4E1E8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5F2AFD3-B1F8-4831-9317-B8765DE758C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D989DA4-EED2-4260-906A-DB5DB065087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D7AEE94-5E9D-4927-8982-574574D8672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C06A8D1-7248-47F9-B143-AFD8E7BAA42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0B9D2883-05E7-4D50-B017-62CAB53F30C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16C6AC3-82CA-47A8-96F9-F9E2FAF4D86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7059-6BF2-4485-8EBD-435130AC16B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C45F9E6-3CFD-467E-B3EF-7A1BE367030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0:07Z</dcterms:modified>
  <cp:revision>13</cp:revision>
  <dc:subject/>
  <dc:title>Uni HD Beispiel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